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378D2-764E-4B2F-9D32-DC5278A1D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8522D-6668-4945-B463-F8921F413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352-BEAE-4E6F-9C51-B2B3D3194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0AD22-DAC6-451B-A94B-BF3923D990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65B-B7B2-47A0-B9CE-16E1EF7FF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FB14A-E908-44F4-8BA9-803112329C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2D9A-C58E-4A50-92F6-9DCF50F0F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4C24E-709A-4596-915C-487DCB5601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39C2-DA66-450E-A60A-563A3BD24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11B98-4611-4A17-9CD7-EF5EC2BAE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1FAD-1BA5-4F91-A061-4EE5D24B8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3945D-747D-4824-9854-317B581EB1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3F2-4E47-4535-A886-EF14BD444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80D-2801-494C-98DF-33E3C3E5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185-0E3B-4251-B338-AD7F510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A7B-A422-4010-951C-65EC9CDD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009-C7C0-4A3B-8170-9FD891D4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64D-5CF0-4736-9CFB-2275C46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AD0-2C5D-45D3-B0F7-84AE517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366-8F17-4760-99AF-4AACAC4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D61-66E0-4F0A-8A53-4D7EC567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F99-FCDF-43A1-867F-5576024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689-6985-4FB8-830B-4688218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151-27A6-4BD6-8E9C-A5F3355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537-A3C7-45FD-881F-8C64BD7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52F60-E95E-478D-B8E0-FF26D31C24F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and Conceptual Learn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-218 Pollock, Jackson.jpg"/>
          <p:cNvPicPr/>
          <p:nvPr/>
        </p:nvPicPr>
        <p:blipFill>
          <a:blip r:embed="rId1"/>
          <a:stretch/>
        </p:blipFill>
        <p:spPr>
          <a:xfrm>
            <a:off x="609480" y="762120"/>
            <a:ext cx="7901280" cy="5761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Jackson Pollack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entury Gothic"/>
              </a:rPr>
              <a:t>Jackson Pollock 1950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6" name="Picture 2" descr="8-217 Pollock, Jackson.jpg"/>
          <p:cNvPicPr/>
          <p:nvPr/>
        </p:nvPicPr>
        <p:blipFill>
          <a:blip r:embed="rId1"/>
          <a:stretch/>
        </p:blipFill>
        <p:spPr>
          <a:xfrm>
            <a:off x="2438280" y="685800"/>
            <a:ext cx="426420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st-Modern Art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abel” for art made from the 1960’s to the 199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or field, Neo-dada, Op Art, Performanc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arhol, Licthe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4-88 Gomez-Pena.jpg"/>
          <p:cNvPicPr/>
          <p:nvPr/>
        </p:nvPicPr>
        <p:blipFill>
          <a:blip r:embed="rId1"/>
          <a:stretch/>
        </p:blipFill>
        <p:spPr>
          <a:xfrm>
            <a:off x="685800" y="8380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ebf1"/>
                </a:solidFill>
                <a:latin typeface="CourierPS"/>
              </a:rPr>
              <a:t>Guillermo Gomez Pena/Coco Fusco 1990’s</a:t>
            </a:r>
            <a:endParaRPr b="0" lang="en-US" sz="2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ourierPS"/>
              </a:rPr>
              <a:t>Felix Gonzalez-Torres – 1990’s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Picture 3" descr="Cuba_Gonzalez_Torres, Felix_untitled.Portrait of Roses_1991, 175 lbs..jpg"/>
          <p:cNvPicPr/>
          <p:nvPr/>
        </p:nvPicPr>
        <p:blipFill>
          <a:blip r:embed="rId1"/>
          <a:stretch/>
        </p:blipFill>
        <p:spPr>
          <a:xfrm>
            <a:off x="533520" y="762120"/>
            <a:ext cx="831672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st-post modern Art…..Contemporary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e artists we explored to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e artists and their work featured in your learning mo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f1375"/>
                </a:solidFill>
                <a:latin typeface="Arial"/>
              </a:rPr>
              <a:t>Parameters of Contemporary Ar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e curtain, the membrane, between artist and viewer is remo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Audiences leave with an essence or a con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ontemporary Art is about ideas, about the space between the artist and viewer, about how we engage.  There is a non-verbal awareness.”  Linny Frick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ocess oriented. Engaged i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Works outside the mar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t is visceral and tex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The experience </a:t>
            </a:r>
            <a:r>
              <a:rPr b="0" i="1" lang="en-US" sz="3200" spc="-1" strike="noStrike">
                <a:solidFill>
                  <a:srgbClr val="ee366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 the object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ee366f"/>
                </a:solidFill>
                <a:latin typeface="Arial"/>
              </a:rPr>
              <a:t>( it’s about you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Formal Elements of Ar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Example of Learning Modu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-Ho Su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entral Id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ffcc99"/>
                </a:solidFill>
                <a:latin typeface="Arial"/>
              </a:rPr>
              <a:t>Contemporary Art can serve as an engaging provocation for conceptual learning.</a:t>
            </a: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Time for explor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nd your unit on the serv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ee366f"/>
                </a:solidFill>
                <a:latin typeface="Arial"/>
              </a:rPr>
              <a:t>Socratic Semin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scuss the following stateme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21</a:t>
            </a:r>
            <a:r>
              <a:rPr b="0" lang="en-US" sz="2800" spc="-1" strike="noStrike" baseline="33000">
                <a:solidFill>
                  <a:srgbClr val="ffcc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 century art, the experience is literally the objec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e366f"/>
                </a:solidFill>
                <a:latin typeface="Arial"/>
              </a:rPr>
              <a:t>Snowball Fight</a:t>
            </a:r>
            <a:br>
              <a:rPr sz="4000"/>
            </a:br>
            <a:r>
              <a:rPr b="0" lang="en-US" sz="2800" spc="-1" strike="noStrike">
                <a:solidFill>
                  <a:srgbClr val="ee366f"/>
                </a:solidFill>
                <a:latin typeface="Arial"/>
              </a:rPr>
              <a:t>(and remember…the experience is the object)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ke a moment to reflect on any new awareness you arrived a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n your piece of paper complete the following statement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 used to think ………….. but now I know……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Lines of Inquir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contemporary art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The parameters of contemporary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The formal elements of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ffcc99"/>
                </a:solidFill>
                <a:latin typeface="Arial"/>
              </a:rPr>
              <a:t>An exploration of curriculum specific learning mo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Experi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We will now watch a segment of Art 21, a PBS show, featuring the work of Do-Ho Suh.  As you watch, take note of your reactions and your emotions.  Be prepared to share what the pieces made you think about and how they made you fe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f1375"/>
                </a:solidFill>
                <a:latin typeface="Arial"/>
              </a:rPr>
              <a:t>Contemporary Art Experienc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n partners explore the piece of art presented to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a minute or two to compose your initial response.  Respond at an emotional level.  What/how is the piece making you fe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with your partn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s a group, postulate the artist’s possible mea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ung Li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f1375"/>
                </a:solidFill>
                <a:latin typeface="Arial"/>
              </a:rPr>
              <a:t>History of Contemporary Art:</a:t>
            </a: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A paradox? Yes indeed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Modern Art</a:t>
            </a:r>
            <a:br>
              <a:rPr sz="3600"/>
            </a:br>
            <a:r>
              <a:rPr b="0" lang="en-US" sz="1800" spc="-1" strike="noStrike">
                <a:solidFill>
                  <a:srgbClr val="ffcc00"/>
                </a:solidFill>
                <a:latin typeface="Century Gothic"/>
              </a:rPr>
              <a:t>Splitting the plane / Exploding the plane / Exiting the plan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1895 – 195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Century Gothic"/>
              </a:rPr>
              <a:t>Cezanne to Kap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Century Gothic"/>
              </a:rPr>
              <a:t>Basket of Apples 1895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Content Placeholder 6" descr="1Paul Cezanne 1895, Basket of Appl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678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440" y="2362320"/>
            <a:ext cx="2255760" cy="3733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1828800"/>
            <a:ext cx="28958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6172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ude Descending a Stairca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6324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ree Music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blo Picas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6576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e Horse in Motion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dward Muybri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4419720"/>
            <a:ext cx="190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isioni Simultane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berto Boccio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Duchamp</a:t>
            </a:r>
            <a:br>
              <a:rPr sz="3200"/>
            </a:br>
            <a:r>
              <a:rPr b="0" lang="en-US" sz="3200" spc="-1" strike="noStrike">
                <a:solidFill>
                  <a:srgbClr val="ee366f"/>
                </a:solidFill>
                <a:latin typeface="Arial"/>
              </a:rPr>
              <a:t>1917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1" name="Picture 3" descr="3. Fountain, 1917, Duchamp, R.jpg"/>
          <p:cNvPicPr/>
          <p:nvPr/>
        </p:nvPicPr>
        <p:blipFill>
          <a:blip r:embed="rId1"/>
          <a:stretch/>
        </p:blipFill>
        <p:spPr>
          <a:xfrm>
            <a:off x="2743200" y="1828800"/>
            <a:ext cx="3657600" cy="373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53080" y="2133720"/>
            <a:ext cx="2133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ountai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. Mut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rmut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or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05:31Z</dcterms:created>
  <dc:creator>Mike Croak</dc:creator>
  <dc:description/>
  <dc:language>en-US</dc:language>
  <cp:lastModifiedBy>Mike Croak</cp:lastModifiedBy>
  <dcterms:modified xsi:type="dcterms:W3CDTF">2009-11-30T05:31:28Z</dcterms:modified>
  <cp:revision>6</cp:revision>
  <dc:subject/>
  <dc:title>Contemporary Art and Conceptual Learning</dc:title>
</cp:coreProperties>
</file>